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00823"/>
        <c:axId val="8692635"/>
      </c:barChart>
      <c:catAx>
        <c:axId val="38400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635"/>
        <c:crosses val="autoZero"/>
        <c:auto val="1"/>
        <c:lblAlgn val="ctr"/>
        <c:lblOffset val="100"/>
        <c:noMultiLvlLbl val="0"/>
      </c:catAx>
      <c:valAx>
        <c:axId val="8692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0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D76-0839-4A9F-AF25-FB9D643B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27F-FC95-4A13-92DC-5CA30859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143-C88E-4736-B7D2-5B69989E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AA4-DD23-4D05-B00C-60FBB07C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792-24EA-431C-A037-99AE1D5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E51-9D75-417B-A541-014AB519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991-C6EC-4804-8FA6-FD2B9FB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F7F-6092-422A-A86D-4CCCE5E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A4C-3B80-48E8-8E54-991A212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1D4-1D69-4161-8F02-03278DE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761-7D81-461F-AD77-1045545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461-57C6-47ED-A786-6689741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48BC-1EB3-4DDA-B82F-F3B40F183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